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AC1-318E-487A-BD0D-E126A8EE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0F8-BE94-406B-8B5B-496CDC9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CDF-0CC3-400C-B370-DE1E280D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083-FF1E-48C2-BE72-CDE6D154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784-59BE-49BB-866B-754BBFCA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8CA-E8D4-481A-A474-BCB16AEB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6FA-E990-410D-8790-5133FA78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47C-DAAE-4F84-AF5D-B9B7691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9C2-1481-494E-BE16-1B5FAD69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61E-4B30-40BE-BA1F-67DAE54D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0DF-2D16-4F44-B86E-1D484595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BCB-5A06-4430-B0B5-07E5AB4E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98BC-4043-4B16-BB99-22E3FDCA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27720" y="0"/>
            <a:ext cx="2816280" cy="2111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4659480"/>
            <a:ext cx="4343400" cy="219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5880" y="4681440"/>
            <a:ext cx="3048120" cy="217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29000" y="0"/>
            <a:ext cx="2895480" cy="2544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447920" y="0"/>
            <a:ext cx="2028600" cy="304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rcRect l="14110" t="0" r="0" b="0"/>
          <a:stretch/>
        </p:blipFill>
        <p:spPr>
          <a:xfrm>
            <a:off x="0" y="1457280"/>
            <a:ext cx="1855800" cy="1438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-4610160" y="-4748040"/>
            <a:ext cx="202104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2895480"/>
            <a:ext cx="167472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990720" y="4106880"/>
            <a:ext cx="1295280" cy="124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867280" y="205740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rcRect l="10715" t="10162" r="10715" b="12832"/>
          <a:stretch/>
        </p:blipFill>
        <p:spPr>
          <a:xfrm>
            <a:off x="0" y="5361120"/>
            <a:ext cx="1828800" cy="149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1371600" y="16765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143000" y="2819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1828800" y="1454040"/>
            <a:ext cx="563868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4:29Z</dcterms:created>
  <dc:creator>MD Anderson Cancer Center</dc:creator>
  <dc:description/>
  <dc:language>en-US</dc:language>
  <cp:lastModifiedBy>MD Anderson Cancer Center</cp:lastModifiedBy>
  <dcterms:modified xsi:type="dcterms:W3CDTF">2010-10-21T03:49:35Z</dcterms:modified>
  <cp:revision>1</cp:revision>
  <dc:subject/>
  <dc:title>PowerPoint Presentation</dc:title>
</cp:coreProperties>
</file>